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6F2-F99C-4C12-9685-1D59FBA2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6D1-7931-4B9F-8BC8-7A5E29E5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80D-C8E0-44FA-88BC-43CB8CFF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E4F-B290-4E78-B460-C582F0A7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418-ADB3-4F3A-B09E-EE1FA9D4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E19-C449-4A50-B481-4125530B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95B-9E71-4659-87DD-26E78689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313-D197-4BD6-AC20-B1E229FD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F12-1428-4349-B934-B35D768A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C0D-98C1-483B-B345-44C362D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ED5-19C3-4223-B1F1-79CE818E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D1B-76E0-474B-AAA2-FA44FE8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D9E9-5E7B-44F9-9B09-89FC79681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4754520" cy="33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403280" y="333360"/>
            <a:ext cx="67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globalizza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0000" y="2060640"/>
            <a:ext cx="237636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228200">
            <a:off x="323640" y="1197000"/>
            <a:ext cx="1873080" cy="1295280"/>
          </a:xfrm>
          <a:prstGeom prst="rightArrow">
            <a:avLst>
              <a:gd name="adj1" fmla="val 57917"/>
              <a:gd name="adj2" fmla="val 377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zzi di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799000">
            <a:off x="539280" y="2708280"/>
            <a:ext cx="1873440" cy="1512720"/>
          </a:xfrm>
          <a:prstGeom prst="rightArrow">
            <a:avLst>
              <a:gd name="adj1" fmla="val 40787"/>
              <a:gd name="adj2" fmla="val 2734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zzi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708360" y="1267920"/>
            <a:ext cx="57636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297600">
            <a:off x="3347640" y="333000"/>
            <a:ext cx="2305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 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500720" y="162828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425400">
            <a:off x="6084360" y="981000"/>
            <a:ext cx="223236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421000"/>
            <a:ext cx="14414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726000">
            <a:off x="6443280" y="2133720"/>
            <a:ext cx="180036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 vita 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299736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914400">
            <a:off x="6084360" y="3357360"/>
            <a:ext cx="1986120" cy="992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732360" y="4292640"/>
            <a:ext cx="14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395400">
            <a:off x="5579640" y="4797360"/>
            <a:ext cx="208764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 e cit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et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9:30Z</dcterms:created>
  <dc:creator>studente</dc:creator>
  <dc:description/>
  <dc:language>en-US</dc:language>
  <cp:lastModifiedBy>studente</cp:lastModifiedBy>
  <dcterms:modified xsi:type="dcterms:W3CDTF">2017-01-09T10:01:23Z</dcterms:modified>
  <cp:revision>7</cp:revision>
  <dc:subject/>
  <dc:title>Diapositiva 1</dc:title>
</cp:coreProperties>
</file>